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60F-0FE4-46D9-A552-832DD3C8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C32-1D6E-46A7-9A4E-588A1E56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258-F89F-4D06-A4E5-06CA7630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8E8-F97D-42B7-A501-CAD06439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B6C2-7315-4BE9-A6C4-778437CB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A1F1-4E00-434E-8D51-67999F95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FCD0-9574-4451-997F-77D41CA5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F03F-73AE-4E73-8507-39B4F15B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25AB-4AC6-4C80-B149-D6DB40E4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9F87-E326-4DA6-85EB-62102ADF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2742-21DF-48C0-A87E-C6FF5145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586-530D-4D83-AFD3-55BBC95D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5E03-9A37-4F79-9767-F31F1033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1AAB-EA04-4DF5-A16A-D3CB85F6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7EAC-757E-4257-A977-F901F152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E32A-DE7A-45D8-9196-A470A4E6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397C-9617-402B-9D30-14E791AE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B63-B99F-4EF8-B533-3429D49B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063-B57D-4AAF-AFEB-B393A7E4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B86-2425-4088-8B06-4C2EE49E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36E-BDB0-4854-A879-306B62F4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F97-B435-41D1-9D31-02078AFA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6CB-6893-479C-83DE-293A0169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4D3-D643-4D8D-AFA1-9DFDFFCF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8306-83C2-49F9-BF03-AC3AAB9E102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99F4-0A4A-4B50-9834-5271FCB9C00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658800"/>
            <a:ext cx="86374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cc"/>
                </a:solidFill>
                <a:latin typeface="Adobe Garamond Pro Bold"/>
              </a:rPr>
              <a:t>Ijaz milkwal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9280" y="2550960"/>
            <a:ext cx="7485120" cy="19814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Country         :: Pakist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Me in class    ::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10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Arial"/>
              </a:rPr>
              <a:t>My interest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   :: drama, eng. fil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My favourite subject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: ar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334120"/>
            <a:ext cx="6858000" cy="1015920"/>
          </a:xfrm>
          <a:prstGeom prst="rect">
            <a:avLst/>
          </a:prstGeom>
          <a:solidFill>
            <a:srgbClr val="ffcc00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0" name="pakistan" descr=""/>
          <p:cNvPicPr/>
          <p:nvPr/>
        </p:nvPicPr>
        <p:blipFill>
          <a:blip r:embed="rId2"/>
          <a:stretch/>
        </p:blipFill>
        <p:spPr>
          <a:xfrm>
            <a:off x="7086600" y="533520"/>
            <a:ext cx="14508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6T23:59:03Z</dcterms:modified>
  <cp:revision>28</cp:revision>
  <dc:subject/>
  <dc:title>MR. HAROON </dc:title>
</cp:coreProperties>
</file>